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6C5-7D0F-49A9-B04B-55F64246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665-898D-4BDF-A565-384F5E02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BE2-EAF1-4E87-A545-EFAE26D2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E896-D0C1-49E4-84BF-9466610F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D23B-59ED-4E63-8438-9296F28C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151-B63A-49B5-8201-6FB3D4D1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BE9F-1F87-4B39-8D80-B1CA2A3C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4505-EA4E-42DB-8776-1F3A4AC6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E18-BE0A-49D0-A9F6-5180791A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47B7-5B04-4D09-ABC4-472C292B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061D-B314-4EE3-9B1E-3513F17A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6D72-2C16-40F6-9567-4D6A57CA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7E34-9E08-4B9D-AD16-13B495FFE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622-267C-452E-A8F5-63AFEAB49FF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89440" y="268200"/>
            <a:ext cx="713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ere an author, what kind of story would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in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b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1752480"/>
            <a:ext cx="5919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ounds and smells can you ima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be part of this set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the 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reader could imagine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hts, smells and sounds that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imagi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rds would you use to descri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racter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r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ild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k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255888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F35-B966-4039-8FF7-FE44DCB75D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504960" cy="3124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35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 and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7680" y="39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360" y="4114800"/>
            <a:ext cx="39618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Little Ita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Francis Speight, American, 1896- 198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oil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54” x 60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1929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ents:  Francis Speight was born in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olina.  He served as Artist in Residence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st Carolina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3040" y="4114800"/>
            <a:ext cx="3201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“Building Societ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Thorsen, Connie, America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rn 19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 oil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56” x 38” x 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5040" y="5830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3920" y="5867280"/>
            <a:ext cx="78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would you like to know about the art or art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562720" y="914400"/>
            <a:ext cx="2098440" cy="312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D2C-A044-42F7-85B7-F55323246C17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943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S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4510080"/>
            <a:ext cx="8381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Art and Language Arts:  setting, main idea and details, comp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ontr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Studies:  space, rural, suburban and ur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Art:  space, shape, color, perspective,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:  observation, identification, evidence, light, shadow, sea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3353040" cy="2987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867280" y="990720"/>
            <a:ext cx="1997280" cy="29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E5D6-8155-4300-8049-C17724E9021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3657600" cy="325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8920" y="115920"/>
            <a:ext cx="81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a few minutes to observe this painting care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1240" y="4002120"/>
            <a:ext cx="816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ab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is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you descri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bjects 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sce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predict if the setting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ban, suburban or ru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7185-2DD6-448A-8F76-FDCCD391091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3657600" cy="3259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4343400"/>
            <a:ext cx="83059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figure out how the painter does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wha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d at the 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age. Is it near or f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obje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the trees.  Wh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the ones that seem far a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examples of one object hiding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ap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 of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.  Which object appears farther a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40040" y="115920"/>
            <a:ext cx="879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though paintings are flat, some parts look far aw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other parts seem to be very cl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312B-DC5B-4A38-B73C-47E7D211E3E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3657600" cy="3259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3800" y="304920"/>
            <a:ext cx="80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focus on light, shadow and color in the pai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1911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d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sun may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predict the time of day?  Why do you think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Does it look like winter, spr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er or fall?  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re in the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461-EA3F-4B05-B6D4-E41D572EB2A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42480" y="46483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04920"/>
            <a:ext cx="77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let’s look at a very different paint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1523880"/>
            <a:ext cx="403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ab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and shad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and far away ob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378792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F1A8-0119-4C1A-B83B-0892E53D45A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75480" y="304920"/>
            <a:ext cx="83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you discover in this painting abou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1600200"/>
            <a:ext cx="533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f 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t, present or future 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ban, suburban or rural 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89440" y="4038480"/>
            <a:ext cx="50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point out an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provide information about w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ent, country or reg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n in this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322416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235E-0CD8-4178-AFFF-8ED1D510A60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3429000" cy="3055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8080" y="228600"/>
            <a:ext cx="733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look at these paintings side by side we 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th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4800" y="4191120"/>
            <a:ext cx="791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that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ach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that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painting is more like y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looks like a place where you would choose to l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08560" y="990720"/>
            <a:ext cx="2048040" cy="304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DF81-5F6A-4FB0-BD45-19E069AD048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982800"/>
            <a:ext cx="3581280" cy="3190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54240" y="115920"/>
            <a:ext cx="821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were going to write a story, which painting w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like to use as the setting for your s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2160" y="4290840"/>
            <a:ext cx="78069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kind of story could you write using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r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ett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uld it be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sonal narrati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aginative narrati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c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n-fic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 mystery, an adventu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would you describe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o your readers coul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agine just what you see in the paint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562720" y="990720"/>
            <a:ext cx="2149200" cy="320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75AC-AE46-46B0-8633-E85EFC5F973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7T09:58:29Z</dcterms:modified>
  <cp:revision>1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